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E50-EE03-4BD3-A9EB-17044E26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5866-5C86-418A-ABD6-9D0CDAAF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DDB-296C-4E6C-A78F-007D047D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EB9-BE18-4C39-8852-BE9BDA24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04D6-4708-420D-9817-467763CE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18D2-1AF5-46E4-A4C1-6A03E6B7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853F-9D52-42E1-B748-B697CA32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A620-23DD-4C97-8768-26E53D48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649D-5DC7-434B-B4EC-84BEECC3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687F-64E4-419E-A90B-802D86AD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1FF9-8372-4837-A91E-E7560361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5D4-6F55-435F-9024-63682F13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25D5-BF59-4781-B636-1E8F8C2B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0392-2E69-4F41-961E-AFF5A529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73B1-561F-4946-9EC6-F14D5B88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3F3F-0872-4B0E-ACC0-410FA67B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2DF6-C3BE-40F3-BA4A-4480528F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79F37-EB7B-419C-8E55-1B13BA64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BE0F8-D198-49C2-BF5F-DCB5D0C1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C0B1A-BDF5-49E8-AAD6-CD55E171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04CDE-4006-4D3B-BF4C-1DE61D6C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FAE6E-C982-4E56-9F18-1DEA9D0B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5B08-F7C7-445C-A82B-28E1242F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D08A7-4E31-4AEC-A67D-7C9C36FA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F3B3-C632-4E09-802F-0096CA63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9F83A-6F7A-49AD-92D8-650CC385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26EDD-F08A-41DD-A749-E3004F63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01BE1-7726-41F1-858C-1BA3DE56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D0D07-4419-4D89-811F-CBA93CCC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AA932-C945-4E7B-AF65-24C80C9A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4FE93-EB0B-4086-977D-EC34AC24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AA0F1-09B6-45FF-8E6F-5C59C8CB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5A4BB-72C4-4821-8E2E-9466BED9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C74-0EC3-40C7-BFFB-E758780B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61AFB-579F-474E-B6AD-EED56ECF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07D2A-223D-4889-BBD2-E2EBBAC6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602E7-B64A-422D-8B18-26AED8AA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A1417-1A79-4185-A703-4741C5C2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4AEF8-86D3-4DA3-AB9D-F4148061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7A6AC-92A7-4F9A-B2AC-808C11D0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1B16F-6E21-4097-9F6B-9916F4A9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0CE30-D217-415F-B414-C9BAA8C0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76885-81FF-410F-8DB6-EEE9FB0F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A6E7C-86E6-4BA9-BD42-EBE4D523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5DA-8FFD-4CDC-9B76-DBDDD9A2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FBF8D-7459-48EB-A2D8-A8666AF1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47C6D-CD48-438A-A27A-EEB7643D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38A44-82BE-4064-8327-EFD7A885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2EBDD-E3FD-4F14-931E-9E9737A5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92BCE-F074-40CF-8664-49E83E8F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5C464-4B7E-4DC1-8DCB-7C0D6D6F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E522A-E999-4371-8FBC-216C1D35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33F33-7920-4CBF-A428-C20875E1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FD26A-9B8D-45B6-BFCA-162D39D5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0D85C-DCB3-4CFD-952C-0F3B0A3A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6C9-BFCF-4811-9212-27C88A23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A3E01-D67B-4121-B355-AD2854D3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2EFF1-0FFA-4808-9BE8-AF85A6C5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E0848-8756-4E93-93CC-C9F107E0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79883-5BCA-445A-B08E-B25452FD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0E22A-7705-422D-BD66-1F47DA55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F199E-E5ED-47A8-AE95-F3066657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561B9-D7DD-4595-90F1-345071A1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DECD1-20B0-4432-B648-7E72C799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A6B91-92F5-4645-9035-E1B96F7B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7DA91-2C48-494F-9DD4-7CE02F9B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7A1-9E5F-4491-88F0-C7D6537C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58573-8090-4469-A58D-16943FC2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A112E-EF63-4DC2-8A7C-F7879750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DF579-6A12-4DDC-B707-855C41C1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4C409-7CD9-4213-BED1-0F185351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87678-95DB-45BA-BE09-3BE963F1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ACA98-4EB7-45A4-9240-B12F4AFB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F5BFA-B9C5-49D9-89D4-EC05CDBA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9C223-FF15-4E55-A987-B33B66CF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93799-2BE7-45D8-B25D-FF246D6D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AEC9A-2482-4669-B2F1-D29FB368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A6A-207C-4AD7-A7AD-E2A44E9A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681BD-1EF4-4D94-9C7D-5B6F54A5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9B4B7-B5F8-4683-8645-CFF22E7C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00184-95DE-4D07-89BA-504A2110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E3810-53FB-407F-A7FA-87ECDACF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B1010-157F-400D-8EDF-DB0A6A2D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F902-2C9D-4693-AA93-4006EF83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1EE5-4670-4A5D-81E5-37FFEB4D34E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8E89-FBE4-4346-82E6-A5C4AF7760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E8C3-4012-432B-8B0B-4C59A0CACD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8BF2-A345-48DB-B13E-2A93A832CE8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7601-760C-4F19-B471-C3A42DCAC7A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42F3-A914-4D53-9C56-A1B2058ED44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3318-8265-45AB-B2FC-AF65593EE5D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msnbc.msn.com/id/41857506/ns/business-consumer_news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tellkentucky.org/" TargetMode="External"/><Relationship Id="rId3" Type="http://schemas.openxmlformats.org/officeDocument/2006/relationships/hyperlink" Target="mms://video1.education.ky.gov/On-Demand2011/Teacher_2-21-2011.wmv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2560" y="212760"/>
            <a:ext cx="7785000" cy="1414440"/>
          </a:xfrm>
          <a:prstGeom prst="rect">
            <a:avLst/>
          </a:prstGeom>
          <a:ln w="0">
            <a:noFill/>
          </a:ln>
        </p:spPr>
      </p:pic>
      <p:pic>
        <p:nvPicPr>
          <p:cNvPr id="304" name="corycotton's Channel.wmv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458200" cy="4757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C:\Users\mmiddleton.WILLIAMSTOWN\AppData\Local\Microsoft\Windows\Temporary Internet Files\Content.IE5\6MS1V72I\MP900448551[1].jpg"/>
          <p:cNvPicPr/>
          <p:nvPr/>
        </p:nvPicPr>
        <p:blipFill>
          <a:blip r:embed="rId3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C:\Users\mmiddleton.WILLIAMSTOWN\AppData\Local\Microsoft\Windows\Temporary Internet Files\Content.IE5\6MS1V72I\MP900448551[1].jpg"/>
          <p:cNvPicPr/>
          <p:nvPr/>
        </p:nvPicPr>
        <p:blipFill>
          <a:blip r:embed="rId4"/>
          <a:stretch/>
        </p:blipFill>
        <p:spPr>
          <a:xfrm>
            <a:off x="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07880" y="60480"/>
            <a:ext cx="8358120" cy="13539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6002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ally the number of stars and triangles for each characteristic at your table while discussing the characteristic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ew” CHETL documents for each content area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time allows, we will look over the “new” documen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3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835200" y="-6480"/>
            <a:ext cx="7480080" cy="1158840"/>
          </a:xfrm>
          <a:prstGeom prst="rect">
            <a:avLst/>
          </a:prstGeom>
          <a:ln w="0">
            <a:noFill/>
          </a:ln>
        </p:spPr>
      </p:pic>
      <p:pic>
        <p:nvPicPr>
          <p:cNvPr id="335" name="fbdo.wmv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7111800" cy="53341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C:\Users\mmiddleton.WILLIAMSTOWN\AppData\Local\Microsoft\Windows\Temporary Internet Files\Content.IE5\6MS1V72I\MP900448551[1].jpg"/>
          <p:cNvPicPr/>
          <p:nvPr/>
        </p:nvPicPr>
        <p:blipFill>
          <a:blip r:embed="rId3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0720" y="-146160"/>
            <a:ext cx="7480440" cy="16146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228600" y="1676520"/>
            <a:ext cx="8610480" cy="4873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ort out the Classroom Characteristics into two categorie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entury Classroom Characteristic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entury Classroom Characteristic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en finished, send one person to get the answers for your table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378000" y="-6480"/>
            <a:ext cx="8089560" cy="1158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685800" y="18288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Take a look at the document labeled “The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G Omeg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 Century Classroom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Have discussions with your table about where we are in this continuum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Share your thoughts with the whole group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Has anyone used a resource they would like to share?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Any other news you would like to share with the group concerning our work around SB1?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3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27400"/>
          </a:xfrm>
          <a:prstGeom prst="rect">
            <a:avLst/>
          </a:prstGeom>
          <a:ln w="0">
            <a:noFill/>
          </a:ln>
        </p:spPr>
      </p:pic>
      <p:pic>
        <p:nvPicPr>
          <p:cNvPr id="347" name="Content Placeholder 3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17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C:\Users\mmiddleton.WILLIAMSTOWN\AppData\Local\Microsoft\Windows\Temporary Internet Files\Content.IE5\8N4TJ71I\MC900432605[1].png"/>
          <p:cNvPicPr/>
          <p:nvPr/>
        </p:nvPicPr>
        <p:blipFill>
          <a:blip r:embed="rId3"/>
          <a:stretch/>
        </p:blipFill>
        <p:spPr>
          <a:xfrm>
            <a:off x="3581280" y="2133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4"/>
          <p:cNvSpPr/>
          <p:nvPr/>
        </p:nvSpPr>
        <p:spPr>
          <a:xfrm>
            <a:off x="1600200" y="419112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l  Applications are Due April 15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 can review strategies of Assessment for Learning and apply them in my classroom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 can provide information concerning the components of Kentucky’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aracteristics of Highly Effective Teaching and Learning (CHETL)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 can apply my understanding of the components and utility of CHETL at my school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 can determine the characteristics of 2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entury Skills and apply those characteristics to my classroom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ne Minute Pap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Use the half sheet of paper to answer the open ended questions and place on the front tabl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VE A GREAT EVENING!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2000"/>
          </a:bodyPr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Read 151-174 in strategies book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Section 5 of CHETL Triangle/Star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 Century Grant if interested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Be Bold… Try Something New.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Be Intentional about your learning target, activities, FA, etc.  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58920" indent="-261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3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http://www.msnbc.msn.com/id/41857506/ns/business-consumer_news/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ve discussion at your table about your thoughts after watching this vide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533520" y="16765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rs. Sally Skinn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olicy Chang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ELL Survey  </a:t>
            </a:r>
            <a:r>
              <a:rPr b="0" lang="en-US" sz="2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www.tellkentucky.or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68bba"/>
                </a:solidFill>
                <a:uFillTx/>
                <a:latin typeface="Corbel"/>
                <a:hlinkClick r:id="rId3"/>
              </a:rPr>
              <a:t>mms://video1.education.ky.gov/On-Demand2011/Teacher_2-21-2011.wmv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spcBef>
                <a:spcPts val="4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SB 1 Updat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spcBef>
                <a:spcPts val="4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2011-2012: Accountability Mode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spcBef>
                <a:spcPts val="4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1" name="Picture 3" descr="SSkinner.jpg"/>
          <p:cNvPicPr/>
          <p:nvPr/>
        </p:nvPicPr>
        <p:blipFill>
          <a:blip r:embed="rId4"/>
          <a:stretch/>
        </p:blipFill>
        <p:spPr>
          <a:xfrm>
            <a:off x="6858000" y="1981080"/>
            <a:ext cx="1973160" cy="26989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C:\Users\mmiddleton.WILLIAMSTOWN\AppData\Local\Microsoft\Windows\Temporary Internet Files\Content.IE5\6MS1V72I\MP900448551[1].jpg"/>
          <p:cNvPicPr/>
          <p:nvPr/>
        </p:nvPicPr>
        <p:blipFill>
          <a:blip r:embed="rId5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 can Review strategies of Assessment for Learning and apply them in my classroom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 can provide information concerning the components and utility of Kentucky’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aracteristics of Highly Effective Teaching and Learning (CHETL)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 can apply my understanding of the components and utility of CHETL at my school and district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 can determine the characteristics of 2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entury Skills and apply those characteristics to my classroom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27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vide students with a clear and understandable vision of the learning targe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e examples and models of strong and weak work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fer regular descriptive feedback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ach students to self-assess and set goal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298440" y="30240"/>
            <a:ext cx="8699400" cy="12747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6858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sign lessons to focus on one learning target or aspect of quality at a tim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Activity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 algn="ctr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Look at the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rbel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grade standards related to fractions.  (Please note that these are in teacher targets not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student friendly targets).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 algn="ctr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ompare these standards with the four lessons and the assessment you have on fraction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 algn="ctr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Discuss with your table if the lessons and the test are congruent to the learning that is expected in the standard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ach students focused revision. Practice, with feedback, during the lessons delivered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cused instruction followed by focused practic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-49320" y="371520"/>
            <a:ext cx="8778960" cy="1420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orrecting Misconception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Using Multiple Choice as teaching tool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Using Distractors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xplaining why something is wrong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Matching Answer Choic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Using Graphic Organizer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reating Short Focused Task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ork with a Partner to Revise Weak Sample or Their Own Work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tudents Write an Explanation  of what they can do to make their product exemplary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Model for your student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t activities from Chapter 5 have you tried?  How did it work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t activities do you plan to try?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ave you tried something else that works and would fit with these two strategies?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 middle/high teachers, what did you think of the excerpt from the grading policy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One person from your table may be called on to share what your table has discusse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4" descr="C:\Users\mmiddleton.WILLIAMSTOWN\AppData\Local\Microsoft\Windows\Temporary Internet Files\Content.IE5\6MS1V72I\MP900448551[1].jpg"/>
          <p:cNvPicPr/>
          <p:nvPr/>
        </p:nvPicPr>
        <p:blipFill>
          <a:blip r:embed="rId2"/>
          <a:stretch/>
        </p:blipFill>
        <p:spPr>
          <a:xfrm>
            <a:off x="8332920" y="0"/>
            <a:ext cx="8110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3:11:20Z</dcterms:created>
  <dc:creator>mmiddleton</dc:creator>
  <dc:description/>
  <dc:language>en-US</dc:language>
  <cp:lastModifiedBy>mmiddleton</cp:lastModifiedBy>
  <dcterms:modified xsi:type="dcterms:W3CDTF">2011-03-14T16:24:06Z</dcterms:modified>
  <cp:revision>107</cp:revision>
  <dc:subject/>
  <dc:title>Slide 1</dc:title>
</cp:coreProperties>
</file>